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CE85-0D94-4278-8D82-9F79A81AF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0BE8-F48B-4632-8446-BAA940D95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0F7-0C67-4E1B-8ECA-768C503E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CB8-FBF4-4A9D-ADC2-E8E80CC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6F8-B730-4D0B-BE90-475B0C57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A98-0DC2-4A5E-8EF2-6AF86FAD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1BA-98E1-4E29-9A3A-77DEA0E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928-1794-469B-8251-1EB8693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1C6-1CD1-4CBD-AE07-C88DC53B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887-4CB2-45CF-A21F-C12C4AA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BCE-77CE-4137-838E-A5B7C47D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F87-D526-4D24-96EF-80C71CE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271-0304-438A-A5D1-77CDF40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0C0-4EAF-4466-BB6B-2081C65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FA6-396E-4F1E-8D46-47D432C9D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1DB-78E0-4131-B9C5-A21C595DB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января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F16-869E-4770-8321-FE85EB4FE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январ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1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1040" y="907920"/>
          <a:ext cx="883296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07920"/>
                    <a:ext cx="883296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0-12-31T08:29:23Z</dcterms:modified>
  <cp:revision>122</cp:revision>
  <dc:subject/>
  <dc:title>Презентация PowerPoint</dc:title>
</cp:coreProperties>
</file>